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6B3-54C1-4152-A1C2-C67BE22E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B5C-69A1-4CD4-8AA1-0C1A2F4B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8F0-30D9-4134-91D9-16E26FF4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B3F-6B14-4EF0-ACDE-C8DB784A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EFA-575F-4230-9C2A-F2A30387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5A6-F5F8-47CC-BBC8-8E1405A6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C4B-7E98-464F-A4E6-6500CA75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C16-53A9-4262-97CE-1A5AD507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FD7-A585-460E-BA2C-5C26B494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84B-DB61-4E59-BCCE-2FA9202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EDE-2111-4453-B3C9-BD270AD8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D2A-0DA2-4544-85CD-5DBEAED0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0D82-5FA4-4E13-A9A4-9BA5C39D80A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Part XII.</a:t>
            </a:r>
            <a:br>
              <a:rPr sz="6600"/>
            </a:b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Optimization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and</a:t>
            </a:r>
            <a:br>
              <a:rPr sz="6600"/>
            </a:b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Code Gener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code gena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952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98108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B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5146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or every 3AC instruction, there is a proced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at generates the corresponding target c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95288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48640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duction of loading and storing betwe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s and memo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5053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Main disadvantag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s each 3AC instruction is out of the basic block context, a lot of  redundant loading and storing occ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220968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99800" y="190512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205740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20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143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65760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35268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053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657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510552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77840" y="4952880"/>
            <a:ext cx="27590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9528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14800" y="2666880"/>
            <a:ext cx="2971800" cy="3505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505320"/>
            <a:ext cx="25146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06668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6160" y="2666880"/>
            <a:ext cx="28630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7339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505320"/>
            <a:ext cx="29718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target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91120" y="4343400"/>
            <a:ext cx="4746600" cy="825480"/>
            <a:chOff x="4191120" y="4343400"/>
            <a:chExt cx="4746600" cy="825480"/>
          </a:xfrm>
        </p:grpSpPr>
        <p:sp>
          <p:nvSpPr>
            <p:cNvPr id="230" name=""/>
            <p:cNvSpPr/>
            <p:nvPr/>
          </p:nvSpPr>
          <p:spPr>
            <a:xfrm>
              <a:off x="7089840" y="4343400"/>
              <a:ext cx="184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 redun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91120" y="457164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91120" y="457200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ntext-Sensitive Generation (CSG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143000"/>
            <a:ext cx="7848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ation of loading and storing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and memo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ru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 value is in a regist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used 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keep it in the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2743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formation neede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352680"/>
            <a:ext cx="83818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variables are needed later in the block and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asic block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registers are in use and what they h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egister association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current value of a variable is to be fou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ddress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71800" y="2438280"/>
            <a:ext cx="358128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SG: Analysis within a Basic Block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143000"/>
            <a:ext cx="815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variable i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it is used later in the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8000" y="18288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124080"/>
            <a:ext cx="15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xt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0886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133720"/>
            <a:ext cx="167616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429000"/>
            <a:ext cx="167652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743200"/>
            <a:ext cx="243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 occurrence of  variable “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3048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90280" y="339084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648320"/>
            <a:ext cx="83055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detect live variables effectivel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ndin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is, read the instructions from the block end towards its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3354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514600"/>
            <a:ext cx="326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)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:= b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j) d :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600200"/>
          <a:ext cx="4419720" cy="2285640"/>
        </p:xfrm>
        <a:graphic>
          <a:graphicData uri="http://schemas.openxmlformats.org/drawingml/2006/table">
            <a:tbl>
              <a:tblPr/>
              <a:tblGrid>
                <a:gridCol w="1449000"/>
                <a:gridCol w="1231560"/>
                <a:gridCol w="1739160"/>
              </a:tblGrid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tetion of a 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1523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97632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27196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79584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219320"/>
            <a:ext cx="10666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705720" y="152352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0080" y="27432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2438280"/>
            <a:ext cx="1067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one(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010280" y="27428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4290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number of a l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038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 assum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5160" y="4495680"/>
            <a:ext cx="474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programmer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temporary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449568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 Table (BB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600200"/>
          <a:ext cx="5857920" cy="1889280"/>
        </p:xfrm>
        <a:graphic>
          <a:graphicData uri="http://schemas.openxmlformats.org/drawingml/2006/table">
            <a:tbl>
              <a:tblPr/>
              <a:tblGrid>
                <a:gridCol w="990360"/>
                <a:gridCol w="1827360"/>
                <a:gridCol w="1407960"/>
                <a:gridCol w="163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cs-CZ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=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4772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74772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27196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27196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781680" y="213372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7280" y="266688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9625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(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current in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these 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505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4100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8672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2362320"/>
            <a:ext cx="22860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in a ST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8320" y="1371600"/>
          <a:ext cx="3816360" cy="2316240"/>
        </p:xfrm>
        <a:graphic>
          <a:graphicData uri="http://schemas.openxmlformats.org/drawingml/2006/table">
            <a:tbl>
              <a:tblPr/>
              <a:tblGrid>
                <a:gridCol w="792000"/>
                <a:gridCol w="1511280"/>
                <a:gridCol w="15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 rot="16200000">
            <a:off x="1967040" y="275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1967040" y="176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2096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4557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5700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722484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3886200"/>
            <a:ext cx="67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ad becaus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 o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alive and used in (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th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flects the situ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ff66ff"/>
                </a:solidFill>
                <a:latin typeface="Courier Ne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95280" y="1599840"/>
            <a:ext cx="0" cy="165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883800" y="2617560"/>
            <a:ext cx="6678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1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126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 := (a-b) + (c-a) - (d+b) * (c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226944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398412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567468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737820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74760" y="17604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944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468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8676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3105360" y="1243800"/>
            <a:ext cx="216000" cy="194436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516000" y="124344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1320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2312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123920" y="2781360"/>
          <a:ext cx="6894720" cy="3597120"/>
        </p:xfrm>
        <a:graphic>
          <a:graphicData uri="http://schemas.openxmlformats.org/drawingml/2006/table">
            <a:tbl>
              <a:tblPr/>
              <a:tblGrid>
                <a:gridCol w="792360"/>
                <a:gridCol w="1944360"/>
                <a:gridCol w="2430720"/>
                <a:gridCol w="17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85800" y="2205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2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132000" y="141300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781320" y="4876920"/>
            <a:ext cx="17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 –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–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–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3280" y="11970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7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2024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3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168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7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7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2565360"/>
            <a:ext cx="22464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ora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2025720"/>
            <a:ext cx="216000" cy="16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120 h 1619280"/>
              <a:gd name="textAreaBottom" fmla="*/ 1577160 h 16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00360" y="3789360"/>
            <a:ext cx="216000" cy="23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143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sic b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statements executed sequentially from beginning to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irst statement of a basic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666880"/>
            <a:ext cx="77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set of leader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irst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i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goto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go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3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39960" y="220500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  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1169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988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885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5573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4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6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220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2200" y="58770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8364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2200" y="5889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5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08432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  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   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426132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07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55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1076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6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5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2168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2168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8220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82200" y="54435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7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   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51224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0880" y="4581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5540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6019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ll the rest analogical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8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838080" y="167652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 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er Association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1600200"/>
          <a:ext cx="2592360" cy="3598920"/>
        </p:xfrm>
        <a:graphic>
          <a:graphicData uri="http://schemas.openxmlformats.org/drawingml/2006/table">
            <a:tbl>
              <a:tblPr/>
              <a:tblGrid>
                <a:gridCol w="792000"/>
                <a:gridCol w="180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 R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190512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6717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20433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1371600"/>
            <a:ext cx="198108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f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57800" y="16761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2096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2209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124080"/>
            <a:ext cx="4800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versed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some operation system purpos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 of vari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530388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use of a register updates R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 indicates the current contents of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685800" y="1600200"/>
          <a:ext cx="3672000" cy="2317680"/>
        </p:xfrm>
        <a:graphic>
          <a:graphicData uri="http://schemas.openxmlformats.org/drawingml/2006/table">
            <a:tbl>
              <a:tblPr/>
              <a:tblGrid>
                <a:gridCol w="158436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g.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Table (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97632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295776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10666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n 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19810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00800" y="1447920"/>
            <a:ext cx="19810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 mem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.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o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43600" y="17524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228600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286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3352680"/>
            <a:ext cx="39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mb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419112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able shows where the current value of every variable can be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2019240"/>
            <a:ext cx="80658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 register 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y free register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lect an occupied register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ve R’s current cont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pdate R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143000"/>
            <a:ext cx="7921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s an optimal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:=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143000"/>
            <a:ext cx="815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e an optimal code for comman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1994040"/>
            <a:ext cx="80658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register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reg.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= c is in memory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AT &amp; AT to indicate that current value o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k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free in 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1371600"/>
            <a:ext cx="5410080" cy="4267080"/>
            <a:chOff x="838080" y="1371600"/>
            <a:chExt cx="5410080" cy="4267080"/>
          </a:xfrm>
        </p:grpSpPr>
        <p:sp>
          <p:nvSpPr>
            <p:cNvPr id="49" name=""/>
            <p:cNvSpPr/>
            <p:nvPr/>
          </p:nvSpPr>
          <p:spPr>
            <a:xfrm>
              <a:off x="2438280" y="472428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3276720"/>
              <a:ext cx="3809880" cy="1371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8280" y="2362320"/>
              <a:ext cx="3809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137160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9680" y="137160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276720"/>
              <a:ext cx="152280" cy="1376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6280"/>
                <a:gd name="textAreaBottom" fmla="*/ 1340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09680" y="236232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724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600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514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657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080" y="4876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419720" y="1371600"/>
            <a:ext cx="4114800" cy="764640"/>
            <a:chOff x="4419720" y="1371600"/>
            <a:chExt cx="4114800" cy="764640"/>
          </a:xfrm>
        </p:grpSpPr>
        <p:sp>
          <p:nvSpPr>
            <p:cNvPr id="64" name=""/>
            <p:cNvSpPr/>
            <p:nvPr/>
          </p:nvSpPr>
          <p:spPr>
            <a:xfrm>
              <a:off x="4419720" y="1600200"/>
              <a:ext cx="228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2940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00800" y="1676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irst 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76720" y="2286000"/>
            <a:ext cx="5257800" cy="764640"/>
            <a:chOff x="3276720" y="2286000"/>
            <a:chExt cx="5257800" cy="764640"/>
          </a:xfrm>
        </p:grpSpPr>
        <p:sp>
          <p:nvSpPr>
            <p:cNvPr id="68" name=""/>
            <p:cNvSpPr/>
            <p:nvPr/>
          </p:nvSpPr>
          <p:spPr>
            <a:xfrm>
              <a:off x="3276720" y="251460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05720" y="2286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590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5880" y="3276720"/>
            <a:ext cx="2438280" cy="1059480"/>
            <a:chOff x="6095880" y="3276720"/>
            <a:chExt cx="2438280" cy="1059480"/>
          </a:xfrm>
        </p:grpSpPr>
        <p:sp>
          <p:nvSpPr>
            <p:cNvPr id="72" name=""/>
            <p:cNvSpPr/>
            <p:nvPr/>
          </p:nvSpPr>
          <p:spPr>
            <a:xfrm>
              <a:off x="6095880" y="3505320"/>
              <a:ext cx="761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1680" y="3276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00440" y="3657600"/>
              <a:ext cx="2133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724280"/>
            <a:ext cx="5257800" cy="1349280"/>
            <a:chOff x="3276720" y="4724280"/>
            <a:chExt cx="5257800" cy="1349280"/>
          </a:xfrm>
        </p:grpSpPr>
        <p:sp>
          <p:nvSpPr>
            <p:cNvPr id="76" name=""/>
            <p:cNvSpPr/>
            <p:nvPr/>
          </p:nvSpPr>
          <p:spPr>
            <a:xfrm>
              <a:off x="3276720" y="495288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4724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0800" y="5029200"/>
              <a:ext cx="21337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514600" y="1295280"/>
            <a:ext cx="38098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1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76520" y="4572000"/>
          <a:ext cx="2819160" cy="1890720"/>
        </p:xfrm>
        <a:graphic>
          <a:graphicData uri="http://schemas.openxmlformats.org/drawingml/2006/table">
            <a:tbl>
              <a:tblPr/>
              <a:tblGrid>
                <a:gridCol w="1073880"/>
                <a:gridCol w="174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5410080" y="4572000"/>
          <a:ext cx="3024360" cy="1554120"/>
        </p:xfrm>
        <a:graphic>
          <a:graphicData uri="http://schemas.openxmlformats.org/drawingml/2006/table">
            <a:tbl>
              <a:tblPr/>
              <a:tblGrid>
                <a:gridCol w="1152360"/>
                <a:gridCol w="18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534600" y="4495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3080" y="4495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676520" y="1219320"/>
          <a:ext cx="6781680" cy="3254400"/>
        </p:xfrm>
        <a:graphic>
          <a:graphicData uri="http://schemas.openxmlformats.org/drawingml/2006/table">
            <a:tbl>
              <a:tblPr/>
              <a:tblGrid>
                <a:gridCol w="838080"/>
                <a:gridCol w="1905120"/>
                <a:gridCol w="1855800"/>
                <a:gridCol w="21826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604800" y="107964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2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268280" y="3924360"/>
          <a:ext cx="3024360" cy="15476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5156280" y="3954600"/>
          <a:ext cx="3024000" cy="14587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1) u:=a-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, a, b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2590920"/>
            <a:ext cx="5791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2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2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3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2) v:=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, c, a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590920"/>
            <a:ext cx="5181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3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4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3) w:=u+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: live; u, v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2590920"/>
            <a:ext cx="5181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5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4) x:=d+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, b: live; d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3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6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5) y:=c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, c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4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4,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7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268280" y="3924360"/>
          <a:ext cx="3024360" cy="25718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56280" y="3954600"/>
          <a:ext cx="3024000" cy="257148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) z:=x*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: live; x, y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mul R3,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8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7) d:=w-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 w, z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9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 of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5909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store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R2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ave all live variables!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 Example 10/10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676520" y="1828800"/>
          <a:ext cx="5970600" cy="4508640"/>
        </p:xfrm>
        <a:graphic>
          <a:graphicData uri="http://schemas.openxmlformats.org/drawingml/2006/table">
            <a:tbl>
              <a:tblPr/>
              <a:tblGrid>
                <a:gridCol w="866520"/>
                <a:gridCol w="2055960"/>
                <a:gridCol w="30481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ted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>
            <a:off x="60948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ing Code: 12 instructions instead of 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495288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505320"/>
            <a:ext cx="380988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590920"/>
            <a:ext cx="3809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60020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600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505320"/>
            <a:ext cx="152280" cy="1376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6280"/>
              <a:gd name="textAreaBottom" fmla="*/ 1340640 h 137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590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952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3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Graph over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523880"/>
            <a:ext cx="43434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640" y="2362320"/>
            <a:ext cx="6091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31800" y="2894760"/>
            <a:ext cx="1711440" cy="19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03" y="1282"/>
                </a:moveTo>
                <a:arcTo wR="10800" hR="10800" stAng="-3708029" swAng="9343007"/>
                <a:lnTo>
                  <a:pt x="10800" y="10800"/>
                </a:lnTo>
                <a:close/>
              </a:path>
              <a:path fill="none" w="21600" h="21600">
                <a:moveTo>
                  <a:pt x="15903" y="1282"/>
                </a:moveTo>
                <a:arcTo wR="10800" hR="10800" stAng="-3708029" swAng="934300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760" y="3276720"/>
            <a:ext cx="137088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551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5519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4290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0574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1676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9718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1055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36576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4120" y="3632040"/>
            <a:ext cx="596880" cy="584280"/>
          </a:xfrm>
          <a:custGeom>
            <a:avLst/>
            <a:gdLst/>
            <a:ahLst/>
            <a:rect l="l" t="t" r="r" b="b"/>
            <a:pathLst>
              <a:path w="319" h="368">
                <a:moveTo>
                  <a:pt x="0" y="0"/>
                </a:moveTo>
                <a:cubicBezTo>
                  <a:pt x="28" y="8"/>
                  <a:pt x="119" y="13"/>
                  <a:pt x="168" y="48"/>
                </a:cubicBezTo>
                <a:cubicBezTo>
                  <a:pt x="217" y="83"/>
                  <a:pt x="273" y="155"/>
                  <a:pt x="296" y="208"/>
                </a:cubicBezTo>
                <a:cubicBezTo>
                  <a:pt x="319" y="261"/>
                  <a:pt x="302" y="335"/>
                  <a:pt x="304" y="3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720" y="3352680"/>
            <a:ext cx="880920" cy="990720"/>
          </a:xfrm>
          <a:custGeom>
            <a:avLst/>
            <a:gdLst/>
            <a:ahLst/>
            <a:rect l="l" t="t" r="r" b="b"/>
            <a:pathLst>
              <a:path w="555" h="624">
                <a:moveTo>
                  <a:pt x="528" y="624"/>
                </a:moveTo>
                <a:cubicBezTo>
                  <a:pt x="527" y="567"/>
                  <a:pt x="555" y="369"/>
                  <a:pt x="520" y="280"/>
                </a:cubicBezTo>
                <a:cubicBezTo>
                  <a:pt x="485" y="191"/>
                  <a:pt x="407" y="135"/>
                  <a:pt x="320" y="88"/>
                </a:cubicBezTo>
                <a:cubicBezTo>
                  <a:pt x="233" y="41"/>
                  <a:pt x="67" y="18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209680"/>
            <a:ext cx="6094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0666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gram with basic block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06668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low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095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olated blocks in a flow graph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81960" y="2679840"/>
            <a:ext cx="268200" cy="457200"/>
          </a:xfrm>
          <a:custGeom>
            <a:avLst/>
            <a:gdLst/>
            <a:ahLst/>
            <a:rect l="l" t="t" r="r" b="b"/>
            <a:pathLst>
              <a:path w="169" h="288">
                <a:moveTo>
                  <a:pt x="152" y="0"/>
                </a:moveTo>
                <a:cubicBezTo>
                  <a:pt x="151" y="35"/>
                  <a:pt x="169" y="160"/>
                  <a:pt x="144" y="208"/>
                </a:cubicBezTo>
                <a:cubicBezTo>
                  <a:pt x="119" y="256"/>
                  <a:pt x="30" y="27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220968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ation of the syntax analysis in parall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paration of some substrings of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ubstrings and the rest, calle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kele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e parsed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keleton, the removed substring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replaced wit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seudo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11430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lates 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gram into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1295280"/>
            <a:ext cx="342900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Compilers: Separation of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828800" y="2057400"/>
            <a:ext cx="304920" cy="216000"/>
            <a:chOff x="1828800" y="2057400"/>
            <a:chExt cx="304920" cy="216000"/>
          </a:xfrm>
        </p:grpSpPr>
        <p:sp>
          <p:nvSpPr>
            <p:cNvPr id="540" name=""/>
            <p:cNvSpPr/>
            <p:nvPr/>
          </p:nvSpPr>
          <p:spPr>
            <a:xfrm>
              <a:off x="213048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28800" y="22640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62120" y="1295280"/>
            <a:ext cx="34290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75636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75636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219320" y="2057400"/>
            <a:ext cx="304560" cy="216000"/>
            <a:chOff x="1219320" y="2057400"/>
            <a:chExt cx="304560" cy="216000"/>
          </a:xfrm>
        </p:grpSpPr>
        <p:sp>
          <p:nvSpPr>
            <p:cNvPr id="547" name=""/>
            <p:cNvSpPr/>
            <p:nvPr/>
          </p:nvSpPr>
          <p:spPr>
            <a:xfrm>
              <a:off x="122256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219320" y="22640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362320" y="2819520"/>
            <a:ext cx="304560" cy="215640"/>
            <a:chOff x="2362320" y="2819520"/>
            <a:chExt cx="304560" cy="215640"/>
          </a:xfrm>
        </p:grpSpPr>
        <p:sp>
          <p:nvSpPr>
            <p:cNvPr id="550" name=""/>
            <p:cNvSpPr/>
            <p:nvPr/>
          </p:nvSpPr>
          <p:spPr>
            <a:xfrm>
              <a:off x="266364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30258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752120" y="2819520"/>
            <a:ext cx="304920" cy="215640"/>
            <a:chOff x="1752120" y="2819520"/>
            <a:chExt cx="304920" cy="215640"/>
          </a:xfrm>
        </p:grpSpPr>
        <p:sp>
          <p:nvSpPr>
            <p:cNvPr id="553" name=""/>
            <p:cNvSpPr/>
            <p:nvPr/>
          </p:nvSpPr>
          <p:spPr>
            <a:xfrm>
              <a:off x="175536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752120" y="30258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657600" y="3657600"/>
            <a:ext cx="304920" cy="216000"/>
            <a:chOff x="3657600" y="3657600"/>
            <a:chExt cx="304920" cy="216000"/>
          </a:xfrm>
        </p:grpSpPr>
        <p:sp>
          <p:nvSpPr>
            <p:cNvPr id="556" name=""/>
            <p:cNvSpPr/>
            <p:nvPr/>
          </p:nvSpPr>
          <p:spPr>
            <a:xfrm>
              <a:off x="395928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7600" y="38642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048120" y="3657600"/>
            <a:ext cx="304560" cy="216000"/>
            <a:chOff x="3048120" y="3657600"/>
            <a:chExt cx="304560" cy="216000"/>
          </a:xfrm>
        </p:grpSpPr>
        <p:sp>
          <p:nvSpPr>
            <p:cNvPr id="559" name=""/>
            <p:cNvSpPr/>
            <p:nvPr/>
          </p:nvSpPr>
          <p:spPr>
            <a:xfrm>
              <a:off x="305136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048120" y="38642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952880" y="1295280"/>
            <a:ext cx="350532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494784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1295280"/>
            <a:ext cx="358164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494784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494784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494784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2286000"/>
            <a:ext cx="685800" cy="990720"/>
          </a:xfrm>
          <a:prstGeom prst="rightArrow">
            <a:avLst>
              <a:gd name="adj1" fmla="val 55259"/>
              <a:gd name="adj2" fmla="val 2291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05520" y="434340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181480" y="4876920"/>
          <a:ext cx="2971800" cy="155232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5800" y="1295280"/>
            <a:ext cx="7772400" cy="129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arallel Compilers: Multi-Level Separ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095880" y="2057400"/>
            <a:ext cx="304920" cy="304560"/>
            <a:chOff x="6095880" y="2057400"/>
            <a:chExt cx="304920" cy="304560"/>
          </a:xfrm>
        </p:grpSpPr>
        <p:sp>
          <p:nvSpPr>
            <p:cNvPr id="575" name=""/>
            <p:cNvSpPr/>
            <p:nvPr/>
          </p:nvSpPr>
          <p:spPr>
            <a:xfrm>
              <a:off x="639756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588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62120" y="12952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+ b   &gt;   c * d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a – b   =   c + d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142640" y="2057400"/>
            <a:ext cx="304920" cy="304560"/>
            <a:chOff x="1142640" y="2057400"/>
            <a:chExt cx="304920" cy="304560"/>
          </a:xfrm>
        </p:grpSpPr>
        <p:sp>
          <p:nvSpPr>
            <p:cNvPr id="580" name=""/>
            <p:cNvSpPr/>
            <p:nvPr/>
          </p:nvSpPr>
          <p:spPr>
            <a:xfrm>
              <a:off x="114588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14264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19320" y="1981080"/>
            <a:ext cx="304560" cy="152640"/>
            <a:chOff x="1219320" y="1981080"/>
            <a:chExt cx="304560" cy="152640"/>
          </a:xfrm>
        </p:grpSpPr>
        <p:sp>
          <p:nvSpPr>
            <p:cNvPr id="583" name=""/>
            <p:cNvSpPr/>
            <p:nvPr/>
          </p:nvSpPr>
          <p:spPr>
            <a:xfrm>
              <a:off x="12225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193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752480" y="1981080"/>
            <a:ext cx="304920" cy="152640"/>
            <a:chOff x="1752480" y="1981080"/>
            <a:chExt cx="304920" cy="152640"/>
          </a:xfrm>
        </p:grpSpPr>
        <p:sp>
          <p:nvSpPr>
            <p:cNvPr id="586" name=""/>
            <p:cNvSpPr/>
            <p:nvPr/>
          </p:nvSpPr>
          <p:spPr>
            <a:xfrm>
              <a:off x="205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524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2590920" y="1981080"/>
            <a:ext cx="304560" cy="152640"/>
            <a:chOff x="2590920" y="1981080"/>
            <a:chExt cx="304560" cy="152640"/>
          </a:xfrm>
        </p:grpSpPr>
        <p:sp>
          <p:nvSpPr>
            <p:cNvPr id="589" name=""/>
            <p:cNvSpPr/>
            <p:nvPr/>
          </p:nvSpPr>
          <p:spPr>
            <a:xfrm>
              <a:off x="259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90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124080" y="1981080"/>
            <a:ext cx="304920" cy="152640"/>
            <a:chOff x="3124080" y="1981080"/>
            <a:chExt cx="304920" cy="152640"/>
          </a:xfrm>
        </p:grpSpPr>
        <p:sp>
          <p:nvSpPr>
            <p:cNvPr id="592" name=""/>
            <p:cNvSpPr/>
            <p:nvPr/>
          </p:nvSpPr>
          <p:spPr>
            <a:xfrm>
              <a:off x="34257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191120" y="1981080"/>
            <a:ext cx="304560" cy="152640"/>
            <a:chOff x="4191120" y="1981080"/>
            <a:chExt cx="304560" cy="152640"/>
          </a:xfrm>
        </p:grpSpPr>
        <p:sp>
          <p:nvSpPr>
            <p:cNvPr id="595" name=""/>
            <p:cNvSpPr/>
            <p:nvPr/>
          </p:nvSpPr>
          <p:spPr>
            <a:xfrm>
              <a:off x="41943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1911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724280" y="1981080"/>
            <a:ext cx="304920" cy="152640"/>
            <a:chOff x="4724280" y="1981080"/>
            <a:chExt cx="304920" cy="152640"/>
          </a:xfrm>
        </p:grpSpPr>
        <p:sp>
          <p:nvSpPr>
            <p:cNvPr id="598" name=""/>
            <p:cNvSpPr/>
            <p:nvPr/>
          </p:nvSpPr>
          <p:spPr>
            <a:xfrm>
              <a:off x="502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42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562720" y="1981080"/>
            <a:ext cx="304560" cy="152640"/>
            <a:chOff x="5562720" y="1981080"/>
            <a:chExt cx="304560" cy="152640"/>
          </a:xfrm>
        </p:grpSpPr>
        <p:sp>
          <p:nvSpPr>
            <p:cNvPr id="601" name=""/>
            <p:cNvSpPr/>
            <p:nvPr/>
          </p:nvSpPr>
          <p:spPr>
            <a:xfrm>
              <a:off x="556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5627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19920" y="1981080"/>
            <a:ext cx="304560" cy="152640"/>
            <a:chOff x="6019920" y="1981080"/>
            <a:chExt cx="304560" cy="152640"/>
          </a:xfrm>
        </p:grpSpPr>
        <p:sp>
          <p:nvSpPr>
            <p:cNvPr id="604" name=""/>
            <p:cNvSpPr/>
            <p:nvPr/>
          </p:nvSpPr>
          <p:spPr>
            <a:xfrm>
              <a:off x="632124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19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828800" y="2666880"/>
            <a:ext cx="10666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3429000"/>
            <a:ext cx="32004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756360" y="3433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34290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756360" y="4195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48769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685800" y="5334120"/>
          <a:ext cx="7772400" cy="1035000"/>
        </p:xfrm>
        <a:graphic>
          <a:graphicData uri="http://schemas.openxmlformats.org/drawingml/2006/table">
            <a:tbl>
              <a:tblPr/>
              <a:tblGrid>
                <a:gridCol w="519120"/>
                <a:gridCol w="725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&gt;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and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=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4952880" y="266688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expres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5257800" y="3124080"/>
          <a:ext cx="2971800" cy="207036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*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-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+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384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26680" y="2268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ke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672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32240" y="2268360"/>
            <a:ext cx="101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85360" y="1371600"/>
            <a:ext cx="1680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267240" y="228600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87800" y="137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46480" y="2254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2560" y="4419720"/>
            <a:ext cx="53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methods 1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intermedia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8168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5257440" y="83772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4343040" y="2282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3733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allel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ation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Optimizer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makes a more efficient version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f the intermediate or targe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loba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within a basic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Glob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span several basic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133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optim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911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pe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2578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 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stant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y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800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izati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2578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invariant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un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ad cod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167652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Constant fol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676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6576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98108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42900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81952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Constant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73392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9051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410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57200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Copy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5181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48640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400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981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) Loop invariant expres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3810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p*q/r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676520"/>
            <a:ext cx="3809880" cy="1218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765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p*q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x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971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) Loop unrol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191120"/>
            <a:ext cx="3808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j := 1 to 2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) Dead code elim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666880"/>
            <a:ext cx="381024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6668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trace then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ln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35268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3352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ad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23880"/>
            <a:ext cx="396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ver execu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oes nothing usefu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5146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4952880"/>
            <a:ext cx="38102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487692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724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876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7150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4120" y="2362320"/>
            <a:ext cx="312408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505320" cy="2667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For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5146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562720"/>
            <a:ext cx="5029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very bu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124080"/>
            <a:ext cx="808200" cy="129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438280"/>
            <a:ext cx="31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1430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optimization only makes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hor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752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4:00Z</dcterms:modified>
  <cp:revision>193</cp:revision>
  <dc:subject/>
  <dc:title>Optimization and Code Generation</dc:title>
</cp:coreProperties>
</file>